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30.png" ContentType="image/png"/>
  <Override PartName="/ppt/media/image31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EEB556D-3999-450F-A26A-5E0B660D812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7DB5FE4-2ABA-4286-85AB-19E198DC449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1962D2B-2324-406A-B9B4-2DC45A2BBBA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26823B0-B3C7-4E65-9C76-BB60848A15F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11DB3EF-A838-45F7-8436-3D623938299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5016B14-5604-4153-80B0-D9C796E3055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6794417-3AD1-48AA-B381-DF57DB397A3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746B051-6B67-4395-9F06-5F3D38E00A7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B75B91E-8903-499E-BF53-90DDF9F6AA1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3A96012-95C7-4223-8EF0-AE21391033C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D27C1ED-496A-407D-AA96-CD649E60D69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5B07F1F-906F-4FE6-86F2-B90037AD70B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0F61B8B-859A-4F49-AD0B-E7C19E3157D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1C656E4-2735-433B-ADEA-70479D53324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8B6EBA5-4689-4572-9552-22323163F38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757EA27-4BBB-4918-B741-F8B88A76DDE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498E7CC-66D3-40FC-BA27-55099DB81DE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6BB69BD-E2F1-4EBA-A14F-CA71257BB79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93FF0F0-2619-478D-99E5-CD65E0974E8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7E67B4B-B93D-41CB-A24D-69C5F452984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F96F666-DD7C-4CDE-BFE2-3E5D94D3D2A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EC2EE5B-D583-4BCB-8F84-39C180DD71A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1CB89A1-CD17-419B-983C-33B8F22689C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6675199-BBB5-431D-AEBF-C2A16770AA7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95B4C4C-6E71-4EAB-A910-AD42734EEBE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F59FC5E-39BB-4C13-81AA-4F5C963339D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7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Pt_CoverArt1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3098ACE-FBA8-4053-A7C8-0AACAC35BF9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isco_NewLogo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Cisco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 Computer Hardware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50520" y="4679640"/>
            <a:ext cx="7442280" cy="701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ing for Home and Small Businesses – Capítul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y Fabián Monteneg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ipos de computadora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dora de escritorio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da en aplicaciones del día a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ador de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ja de cál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1"/>
          <p:cNvPicPr/>
          <p:nvPr/>
        </p:nvPicPr>
        <p:blipFill>
          <a:blip r:embed="rId1"/>
          <a:stretch/>
        </p:blipFill>
        <p:spPr>
          <a:xfrm>
            <a:off x="4127400" y="3695760"/>
            <a:ext cx="440532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ipos de computadora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1560" y="1725480"/>
            <a:ext cx="7940880" cy="4415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tation – Las estaciones de trabajo son computadoras con gran poder de proces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últiples proces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 cantidad de memoria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macenamiento de alta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eño asistido por computadora (C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ción y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1"/>
          <p:cNvPicPr/>
          <p:nvPr/>
        </p:nvPicPr>
        <p:blipFill>
          <a:blip r:embed="rId1"/>
          <a:stretch/>
        </p:blipFill>
        <p:spPr>
          <a:xfrm>
            <a:off x="6845400" y="4343400"/>
            <a:ext cx="19033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ipos de computadora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55560" y="1900080"/>
            <a:ext cx="7940880" cy="1710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utadoras portá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mputadoras portátiles son comparables con las de escritorio en cuanto a uso y capacidad de procesamiento. Sin embargo, son dispositivos portátiles creados para ser livianos y emplear menos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1560" y="4343040"/>
            <a:ext cx="7940880" cy="1709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and features of portab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1"/>
          <p:cNvPicPr/>
          <p:nvPr/>
        </p:nvPicPr>
        <p:blipFill>
          <a:blip r:embed="rId1"/>
          <a:srcRect l="-4040" t="0" r="0" b="23991"/>
          <a:stretch/>
        </p:blipFill>
        <p:spPr>
          <a:xfrm>
            <a:off x="92160" y="3726000"/>
            <a:ext cx="5352840" cy="260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1"/>
          <p:cNvPicPr/>
          <p:nvPr/>
        </p:nvPicPr>
        <p:blipFill>
          <a:blip r:embed="rId2"/>
          <a:stretch/>
        </p:blipFill>
        <p:spPr>
          <a:xfrm>
            <a:off x="4600440" y="3843360"/>
            <a:ext cx="4408560" cy="2187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70000" y="4395960"/>
            <a:ext cx="12776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***Deben consumir poca Ener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epresentación digital de la informació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2109600"/>
            <a:ext cx="7986960" cy="4359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seres humanos interpretamos palabras e imá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computadoras sólo interpretan patrones de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r 0 (1=on; 0=o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its = 1 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Networkers necesitan comprender amb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epresentación digital de la informació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58360" y="1623960"/>
            <a:ext cx="7473960" cy="4649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humanos utilizamos un sistema en base 10, mientras que las computadoras utilizan un sistema binario. Cómo pasar de un sistema a otro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ácil – Conversiones de base 10 a b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e con los siguientes 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75040" y="4853160"/>
            <a:ext cx="23223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69920" y="5262480"/>
            <a:ext cx="2322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0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79640" y="5684760"/>
            <a:ext cx="23223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1297080" y="3951360"/>
            <a:ext cx="6369120" cy="28461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5043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locidad de transferencia de dato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5560" y="1396800"/>
            <a:ext cx="7940880" cy="396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 del tipo de 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P Cab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 del tipo 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os grandes requieren mayor tiempo de des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o de compu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epresentación digital de la informació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2300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ción y 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s – determina la 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tz = ciclos por seg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 MHz = 300 millones de ciclos por seg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1"/>
          <p:cNvPicPr/>
          <p:nvPr/>
        </p:nvPicPr>
        <p:blipFill>
          <a:blip r:embed="rId1"/>
          <a:stretch/>
        </p:blipFill>
        <p:spPr>
          <a:xfrm>
            <a:off x="2133720" y="3944880"/>
            <a:ext cx="42210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Sistema de computació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5560" y="16203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 ensamblado ó hecho a la medida – Cuál debería escoger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jas de un sistema preensambl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nor co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rven para la mayoría de las apl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hay período de espera por a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elen usarlas los consumidores con menos conocimientos, que no tienen exigencias espe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s de un sistema preensambl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lo general, no ofrecen el nivel de rendimiento que se puede obtener con las computadoras personal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Sistema de computació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5560" y="16203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jas de un sistem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echo a la medi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usuario final puede especificar los componentes exactos para satisfacer sus neces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lo general, admiten aplicaciones de mayor rendimiento, como aplicaciones gráficas, aplicaciones para servidores y jue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s de un sistema hecho a la medi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elen costar más que un dispositivo ya ensamb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yor período de espera por el a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1"/>
          <p:cNvPicPr/>
          <p:nvPr/>
        </p:nvPicPr>
        <p:blipFill>
          <a:blip r:embed="rId1"/>
          <a:stretch/>
        </p:blipFill>
        <p:spPr>
          <a:xfrm>
            <a:off x="5521320" y="974880"/>
            <a:ext cx="3384720" cy="3546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7635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onentes y periféricos de una computador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5200" y="1765440"/>
            <a:ext cx="4025880" cy="407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mitir el tipo y la velocidad de CPU seleccio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mitir la cantidad y el tipo de RAM de sistema requeridos por las 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er suficientes ranuras del tipo correcto para aceptar todas las tarjetas de interfaz requer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er suficientes interfaces del tipo cor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1"/>
          <p:cNvPicPr/>
          <p:nvPr/>
        </p:nvPicPr>
        <p:blipFill>
          <a:blip r:embed="rId2"/>
          <a:stretch/>
        </p:blipFill>
        <p:spPr>
          <a:xfrm>
            <a:off x="4618080" y="4546440"/>
            <a:ext cx="440208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3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o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el propósito y los usos de las computadoras personales y describir las aplicaciones locales y de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r y contrastar los distintos tipos de dispositivos informá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ar la representación binaria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r cuáles son los componentes y dispositivos periféricos adecuados para cumplir con determinados requi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ar, verificar y actualizar componentes y periféricos de una computad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7034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onentes y periféricos de una computador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807920"/>
            <a:ext cx="7940880" cy="4660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Processing Unit (CP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io central de una compu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cionando el procesado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or velocidad = Mayor desemp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s energía = Más cali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mover los datos de un lugar a otro como una autop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rápido= Computadora ráp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1"/>
          <p:cNvPicPr/>
          <p:nvPr/>
        </p:nvPicPr>
        <p:blipFill>
          <a:blip r:embed="rId1"/>
          <a:stretch/>
        </p:blipFill>
        <p:spPr>
          <a:xfrm>
            <a:off x="5599080" y="4856040"/>
            <a:ext cx="27352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719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onentes y periféricos de una computador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1360" y="178128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Access Memory (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acenamiento temporal y volá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acena datos mientras el CPU los proc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ándo se requiere más memoria 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do el usuario corre múltiples aplicaciones simultane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do dispone de múltiples C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antidad máxima de RAM es determinada por la motherbo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1"/>
          <p:cNvPicPr/>
          <p:nvPr/>
        </p:nvPicPr>
        <p:blipFill>
          <a:blip r:embed="rId1"/>
          <a:stretch/>
        </p:blipFill>
        <p:spPr>
          <a:xfrm>
            <a:off x="4299120" y="4994280"/>
            <a:ext cx="24634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7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6573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onentes y periféricos de una computador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tarjetas agregan funciones a la computad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1"/>
          <p:cNvPicPr/>
          <p:nvPr/>
        </p:nvPicPr>
        <p:blipFill>
          <a:blip r:embed="rId1"/>
          <a:stretch/>
        </p:blipFill>
        <p:spPr>
          <a:xfrm>
            <a:off x="669960" y="2146320"/>
            <a:ext cx="78786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26760" y="1704600"/>
            <a:ext cx="7940520" cy="438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2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acenamiento mag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25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 d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25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ad de disqu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25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ad de c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1"/>
          <p:cNvPicPr/>
          <p:nvPr/>
        </p:nvPicPr>
        <p:blipFill>
          <a:blip r:embed="rId1"/>
          <a:stretch/>
        </p:blipFill>
        <p:spPr>
          <a:xfrm>
            <a:off x="4444920" y="3733920"/>
            <a:ext cx="4287960" cy="2813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55200" y="719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onentes y periféricos de una computador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onentes y periféricos de una computador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itivos perifé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 las capacidades de la compu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ada: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ida: impres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se conectan los dispositivos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6170760" y="2386080"/>
            <a:ext cx="2712960" cy="3205080"/>
          </a:xfrm>
          <a:prstGeom prst="rect">
            <a:avLst/>
          </a:prstGeom>
          <a:ln w="0">
            <a:noFill/>
          </a:ln>
        </p:spPr>
      </p:pic>
      <p:sp>
        <p:nvSpPr>
          <p:cNvPr id="174" name="Line 5"/>
          <p:cNvSpPr/>
          <p:nvPr/>
        </p:nvSpPr>
        <p:spPr>
          <a:xfrm flipV="1">
            <a:off x="3559320" y="5136840"/>
            <a:ext cx="2530440" cy="1050840"/>
          </a:xfrm>
          <a:prstGeom prst="line">
            <a:avLst/>
          </a:prstGeom>
          <a:ln w="31680">
            <a:solidFill>
              <a:srgbClr val="0183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4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7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onentes y periféricos de una computador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200" y="1644480"/>
            <a:ext cx="5715000" cy="4824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resor de sobrevol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es y periféricos de una computad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S (Uninterruptible Power Supp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un sistema de almacenamiento de energía que se utiliza cuando hay una interrupción del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86680" y="1228680"/>
            <a:ext cx="2360520" cy="1809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002120" y="4764240"/>
            <a:ext cx="2508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4952880" y="4641840"/>
            <a:ext cx="3962520" cy="20480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Instalar, verificar, y actualizar componente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725120"/>
            <a:ext cx="7940880" cy="5002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es pr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gue la computadora y desconectela de la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si el componente es hot-swapp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nca abra una UPS o un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os operan a muy altos volta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ite las descargas electrost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ce una pulsera con conexión a ti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10480" y="2847960"/>
            <a:ext cx="141912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itar en Ca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4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Instalar, verificar, y actualizar componen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/2 – Conecta teclado y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B – Conecta dispositivos Plug-and-Play (Pn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– Conecta modems e impres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– Conecta impres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A – Conecta moni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J11 – Conecta líneas telefó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J45 – Conexión a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1"/>
          <p:cNvPicPr/>
          <p:nvPr/>
        </p:nvPicPr>
        <p:blipFill>
          <a:blip r:embed="rId1"/>
          <a:stretch/>
        </p:blipFill>
        <p:spPr>
          <a:xfrm>
            <a:off x="1584360" y="5081760"/>
            <a:ext cx="57736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187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188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prstGeom prst="pie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prstGeom prst="pie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prstGeom prst="pie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prstGeom prst="pie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3200" spc="-1" strike="noStrike">
                <a:solidFill>
                  <a:srgbClr val="708ca1"/>
                </a:solidFill>
                <a:latin typeface="Arial"/>
              </a:rPr>
              <a:t>Hacia adonde vamos?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74680" y="1984320"/>
            <a:ext cx="861372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ómo y dónde se usan las computadora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69040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últiples usos de las comput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1"/>
          <p:cNvPicPr/>
          <p:nvPr/>
        </p:nvPicPr>
        <p:blipFill>
          <a:blip r:embed="rId1"/>
          <a:stretch/>
        </p:blipFill>
        <p:spPr>
          <a:xfrm>
            <a:off x="777960" y="2370240"/>
            <a:ext cx="795024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s computadoras necesitan 3 cosas…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792000" y="1473120"/>
            <a:ext cx="75139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1333440" y="2422440"/>
            <a:ext cx="6332760" cy="4329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Tipos de aplicacione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55560" y="1900080"/>
            <a:ext cx="7802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o comercial/industrial: aplicaciones específicas para tareas determin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o general: aplicaciones que cualquier organización utiliza como Off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Tipos de aplicacione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0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472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11360" y="2052720"/>
            <a:ext cx="2869920" cy="224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937040" y="2057400"/>
            <a:ext cx="2718000" cy="2163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655560" y="4923000"/>
            <a:ext cx="82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: se ejecuta solo en la computad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– se ejecuta utilizando una red como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e tener dos com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o se ejecuta en la computadora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o se ejecuta en la computadora rem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ipos de computadora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2133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computadora tiene un propósi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566640" y="2057400"/>
            <a:ext cx="8115480" cy="178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57360" y="4389480"/>
            <a:ext cx="3105000" cy="198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3"/>
          <a:stretch/>
        </p:blipFill>
        <p:spPr>
          <a:xfrm>
            <a:off x="5010120" y="4378320"/>
            <a:ext cx="30862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ipos de computadora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2613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dores – se deben mantener en un sitio seguro. (Por qué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servidores son computadoras de alto rendimiento utilizadas en empresas y otras organiz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Wingdings" charset="2"/>
              <a:buChar char="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s CP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Wingdings" charset="2"/>
              <a:buChar char="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 cantidad de memoria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Wingdings" charset="2"/>
              <a:buChar char="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sitivos de almacenamiento de amplia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1"/>
          <p:cNvPicPr/>
          <p:nvPr/>
        </p:nvPicPr>
        <p:blipFill>
          <a:blip r:embed="rId1"/>
          <a:stretch/>
        </p:blipFill>
        <p:spPr>
          <a:xfrm>
            <a:off x="1104840" y="4400640"/>
            <a:ext cx="7543800" cy="2143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99120" y="4184640"/>
            <a:ext cx="128916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 uso en el Sue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27560" y="4125960"/>
            <a:ext cx="1289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s atornillado y se monta en una 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60600" y="4021200"/>
            <a:ext cx="128880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 pueden montar varias servidores sobre é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ITCR</cp:lastModifiedBy>
  <cp:lastPrinted>1999-01-27T00:54:54Z</cp:lastPrinted>
  <dcterms:modified xsi:type="dcterms:W3CDTF">2008-04-04T02:16:07Z</dcterms:modified>
  <cp:revision>383</cp:revision>
  <dc:subject/>
  <dc:title>Personal Computers and Ap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